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6466F-A835-454C-AD8A-E19445B1C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37FE7-5E64-417F-98D0-D72D619C0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BF8C7-1DB1-426D-A934-DAA2A7149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31BCA-B465-4644-B1E9-D5A2BFF97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2EBCD-12D6-4A74-9DA7-82C4B71929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BAD30-C00A-4267-8CDA-E7C6C07AEE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005B5-C73A-4FF8-B80B-DD2835E7E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783C9-B5AB-4E8B-886E-0458FD418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17E23-19CE-4C57-8367-36C0339309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EA136-BBFC-4C15-842C-FAB6236E5D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CBA1-1F50-499D-B95A-4633D2B96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A43B6-7200-4971-A038-39DFDD69A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E57F-0944-45C4-B45C-4C7862BB5099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0538972556_L" descr="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0538972556_L" descr="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0-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ecording Transactions Using a General Journa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DIT MEMORANDUM FOR SALES RETURNS AND ALLOW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21_blue_102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467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2C84-DAC5-42B9-8FC0-7CFCE0533341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URNALIZING SALES RETURNS AND ALLOW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C21_blue_1023" descr=""/>
          <p:cNvPicPr/>
          <p:nvPr/>
        </p:nvPicPr>
        <p:blipFill>
          <a:blip r:embed="rId1"/>
          <a:srcRect l="896" t="0" r="0" b="25046"/>
          <a:stretch/>
        </p:blipFill>
        <p:spPr>
          <a:xfrm>
            <a:off x="1295280" y="2209680"/>
            <a:ext cx="6858000" cy="2038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473120" y="330192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297180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330192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297180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379728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1495440"/>
            <a:ext cx="81532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ch 11. Granted credit to Village Crafts for merchandise returned, $58.50, plus sales tax, $3.51, from S160; total, $62.01. Credit Memorandum No. 4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408924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7240" y="3962520"/>
            <a:ext cx="320760" cy="320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924680" y="379728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838080" y="3556080"/>
            <a:ext cx="1295640" cy="320760"/>
            <a:chOff x="838080" y="3556080"/>
            <a:chExt cx="1295640" cy="320760"/>
          </a:xfrm>
        </p:grpSpPr>
        <p:sp>
          <p:nvSpPr>
            <p:cNvPr id="106" name=""/>
            <p:cNvSpPr/>
            <p:nvPr/>
          </p:nvSpPr>
          <p:spPr>
            <a:xfrm flipH="1">
              <a:off x="1066680" y="3733920"/>
              <a:ext cx="1067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8080" y="3556080"/>
              <a:ext cx="32076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304920" y="443880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4438800"/>
            <a:ext cx="40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sales tax am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4768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les Returns and Allowan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4772160"/>
            <a:ext cx="40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accounts to be credi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511344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the credit memorandum num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5105520"/>
            <a:ext cx="40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a diagonal line in the Post. Ref. colum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570384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amount of the sales retu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5697360"/>
            <a:ext cx="40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total accounts receivable am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603396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les Tax Pay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A8BD8-38A5-4686-9DCA-ADD24C3BD30B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allow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memorand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34745-BF66-423F-A200-E0B7243D03E8}" type="slidenum">
              <a:t>4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48:16Z</dcterms:created>
  <dc:creator>M. C. McLaughlin</dc:creator>
  <dc:description/>
  <dc:language>en-US</dc:language>
  <cp:lastModifiedBy>M. C. McLaughlin</cp:lastModifiedBy>
  <dcterms:modified xsi:type="dcterms:W3CDTF">2005-04-22T22:06:25Z</dcterms:modified>
  <cp:revision>19</cp:revision>
  <dc:subject/>
  <dc:title>Lesson 10-1</dc:title>
</cp:coreProperties>
</file>